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60DE-30FB-41BF-8DA9-AE74BF752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09E5-538A-484A-973D-8F45800C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26B4-76E6-4D8F-A020-D242B831C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071A-B7DD-4374-AEDC-8F4947A63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9590-8734-444C-9A77-80996CBFB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A62C-0C57-45D7-93F6-61759210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8B92-38D1-4DE8-9955-D10423FF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020F-2AD2-4D13-A85A-968DEB70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8572-FE4E-493C-80BE-9B76321D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305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1FCE0-ACB2-42BA-8793-1080D6AD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243A-E420-40C0-8D6E-99FBBABA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9E3D-4992-4413-B103-95C19D3A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CD51-6015-44F3-BF04-F18A1068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8D22-8501-42E5-91C1-5B055830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9F9E6-A2A6-43E0-929E-CDC8F9D0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4996-D8FC-466C-B4A7-08568E9AD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592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428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592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428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0C03-6BC0-4DA8-BCE9-E1D692391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2019-6453-4F98-9F52-A727D589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4D08-3ABD-44E5-8289-69D13168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7EA9-96C9-479F-97EA-A0104667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305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A122-834F-4A77-A623-6E031B24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0D00-DD0C-42FF-8486-B28B8E26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150D-9BA6-4BCF-B8F3-B7A21C81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1D8F-059A-40BE-83F4-569926CC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6477120"/>
            <a:ext cx="1295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25B4-26BE-4022-89C9-9BD474019179}" type="slidenum">
              <a:rPr b="0" lang="en-AU" sz="10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1ED5-760B-48F3-8357-458A6BF431C4}" type="slidenum">
              <a:rPr b="0" lang="en-AU" sz="10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817227"/>
                </a:solidFill>
                <a:latin typeface="Arial Black"/>
              </a:rPr>
              <a:t>Cells and Systems</a:t>
            </a:r>
            <a:endParaRPr b="0" lang="en-US" sz="44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708000" y="3657240"/>
            <a:ext cx="4902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817227"/>
                </a:solidFill>
                <a:latin typeface="Arial Black"/>
              </a:rPr>
              <a:t>Student Knowledge and Skills</a:t>
            </a:r>
            <a:endParaRPr b="0" lang="en-US" sz="36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0592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993300"/>
                </a:solidFill>
                <a:latin typeface="Arial"/>
              </a:rPr>
              <a:t>WHAT YOU WILL LEARN BY THE END OF THIS UNIT: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List the main parts of a microscope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How a microscope work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rial"/>
              </a:rPr>
              <a:t>The differences between plant and animal cell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rial"/>
              </a:rPr>
              <a:t>The components of cell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The jobs performed by different plant and animal cell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The jobs performed by different tissues in animals and plants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How to make a wet mount and stain the mount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Make an accurate drawing of a cell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25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25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25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25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25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25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25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25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25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25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25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25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25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25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25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25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25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25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25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25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25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25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25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25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25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25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25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25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25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25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25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25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25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25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25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25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81720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All plant and animal cells have a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cell membrane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cytoplasm 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and a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nucleus 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at some stage in their life. That’s because all plant and animal cells need food for energy, water and a ‘control centre’. 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Plant cells also have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cell walls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chloroplasts 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vacuoles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Plants need those extra features in their cells to make and store food, and to keep their shape. 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Some animal cells have vacuoles, but they are very small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95280" y="3860640"/>
          <a:ext cx="8213760" cy="792360"/>
        </p:xfrm>
        <a:graphic>
          <a:graphicData uri="http://schemas.openxmlformats.org/drawingml/2006/table">
            <a:tbl>
              <a:tblPr/>
              <a:tblGrid>
                <a:gridCol w="2736720"/>
                <a:gridCol w="2738520"/>
                <a:gridCol w="2738520"/>
              </a:tblGrid>
              <a:tr h="792360">
                <a:tc>
                  <a:txBody>
                    <a:bodyPr lIns="96120" rIns="96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5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Cell wall</a:t>
                      </a:r>
                      <a:endParaRPr b="0" lang="en-US" sz="15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5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Large Vacoule</a:t>
                      </a:r>
                      <a:endParaRPr b="0" lang="en-US" sz="15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5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Chloroplasts</a:t>
                      </a:r>
                      <a:endParaRPr b="0" lang="en-US" sz="15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6120" rIns="96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5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Cell Membrane</a:t>
                      </a:r>
                      <a:endParaRPr b="0" lang="en-US" sz="15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5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Small Vacuole</a:t>
                      </a:r>
                      <a:endParaRPr b="0" lang="en-US" sz="15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5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Ribosomes</a:t>
                      </a:r>
                      <a:endParaRPr b="0" lang="en-US" sz="15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6120" rIns="96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5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Nucleus</a:t>
                      </a:r>
                      <a:endParaRPr b="0" lang="en-US" sz="15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5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Mitochondria</a:t>
                      </a:r>
                      <a:endParaRPr b="0" lang="en-US" sz="15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5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Cytosol</a:t>
                      </a:r>
                      <a:endParaRPr b="0" lang="en-US" sz="15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95280" y="2421000"/>
          <a:ext cx="8213760" cy="792000"/>
        </p:xfrm>
        <a:graphic>
          <a:graphicData uri="http://schemas.openxmlformats.org/drawingml/2006/table">
            <a:tbl>
              <a:tblPr/>
              <a:tblGrid>
                <a:gridCol w="2736720"/>
                <a:gridCol w="2738520"/>
                <a:gridCol w="2738520"/>
              </a:tblGrid>
              <a:tr h="792000">
                <a:tc>
                  <a:txBody>
                    <a:bodyPr lIns="96120" rIns="96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5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Ziplock Bag</a:t>
                      </a:r>
                      <a:endParaRPr b="0" lang="en-US" sz="15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5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Jelly</a:t>
                      </a:r>
                      <a:endParaRPr b="0" lang="en-US" sz="15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5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Raisins</a:t>
                      </a:r>
                      <a:endParaRPr b="0" lang="en-US" sz="15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6120" rIns="96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5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Beaker</a:t>
                      </a:r>
                      <a:endParaRPr b="0" lang="en-US" sz="15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5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Large Marshmellows</a:t>
                      </a:r>
                      <a:endParaRPr b="0" lang="en-US" sz="15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5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Small Marshmellows</a:t>
                      </a:r>
                      <a:endParaRPr b="0" lang="en-US" sz="15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6120" rIns="96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5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Tic Tac</a:t>
                      </a:r>
                      <a:endParaRPr b="0" lang="en-US" sz="15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5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100s and 1000s</a:t>
                      </a:r>
                      <a:endParaRPr b="0" lang="en-US" sz="15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5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Chocolate Buds</a:t>
                      </a:r>
                      <a:endParaRPr b="0" lang="en-US" sz="15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90" name="TextBox 6"/>
          <p:cNvSpPr/>
          <p:nvPr/>
        </p:nvSpPr>
        <p:spPr>
          <a:xfrm>
            <a:off x="395280" y="191628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993300"/>
                </a:solidFill>
                <a:latin typeface="Arial"/>
              </a:rPr>
              <a:t>Use these materials</a:t>
            </a: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371520" y="335772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993300"/>
                </a:solidFill>
                <a:latin typeface="Arial"/>
              </a:rPr>
              <a:t>To represent these organelles in a plant and an animal cell</a:t>
            </a: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>
            <a:off x="395280" y="472428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993300"/>
                </a:solidFill>
                <a:latin typeface="Arial"/>
              </a:rPr>
              <a:t>Create a table in your books for both cells and complete it:</a:t>
            </a: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07880" y="5300640"/>
          <a:ext cx="8209080" cy="446040"/>
        </p:xfrm>
        <a:graphic>
          <a:graphicData uri="http://schemas.openxmlformats.org/drawingml/2006/table">
            <a:tbl>
              <a:tblPr/>
              <a:tblGrid>
                <a:gridCol w="1228680"/>
                <a:gridCol w="5415120"/>
                <a:gridCol w="1565280"/>
              </a:tblGrid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1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Organelle</a:t>
                      </a:r>
                      <a:endParaRPr b="0" lang="en-US" sz="11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1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Details about the organelle</a:t>
                      </a:r>
                      <a:endParaRPr b="0" lang="en-US" sz="11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1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Represented by</a:t>
                      </a:r>
                      <a:endParaRPr b="0" lang="en-US" sz="11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25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9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9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9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904760"/>
            <a:ext cx="8305920" cy="4267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2"/>
          <a:srcRect l="22987" t="32574" r="21106" b="16937"/>
          <a:stretch/>
        </p:blipFill>
        <p:spPr>
          <a:xfrm>
            <a:off x="395280" y="620640"/>
            <a:ext cx="4975200" cy="2808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3"/>
          <a:srcRect l="23412" t="29159" r="22532" b="17546"/>
          <a:stretch/>
        </p:blipFill>
        <p:spPr>
          <a:xfrm>
            <a:off x="3708360" y="3463920"/>
            <a:ext cx="536436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06:10:25Z</dcterms:created>
  <dc:creator>Administrator</dc:creator>
  <dc:description/>
  <dc:language>en-US</dc:language>
  <cp:lastModifiedBy>Peter Kos</cp:lastModifiedBy>
  <dcterms:modified xsi:type="dcterms:W3CDTF">2012-05-28T06:29:59Z</dcterms:modified>
  <cp:revision>50</cp:revision>
  <dc:subject/>
  <dc:title>Cells and Syst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19391033</vt:lpwstr>
  </property>
</Properties>
</file>